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63F-4589-4688-8F75-32F93820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255-20DB-4EC7-87C2-914CA73C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387-D650-4FE7-8FE7-1503B091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AA9-E239-4106-A810-22413757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FA64-BFA3-4C64-B5B3-AFD9152C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05B3-B4EE-486A-BCEC-C4689B5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BD2E-071C-4B2F-A842-C942D9F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4C1F-3E46-45A2-B890-A7B7967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CFA7-44B4-4C9F-836D-7104833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5B9-58CB-4C49-8E25-62FB4C0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55B-9C3B-401C-8C1C-5103218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774-CB7B-442C-8ABE-B5D7D6D9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150E-CD15-4397-B9A7-B67CBF3F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BBC3-10B1-4066-AD3F-5B15A2B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E9BF-EDCB-44AC-892D-157D14C5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D293-0861-46FA-B431-CCDA7E0B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6E4A-2347-4ABA-9815-3C8182B4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46B-3CD3-4676-9DA1-006001E8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A36-1308-49DB-8210-A7FF75A8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B50-7E00-4A91-AC95-8D38D003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E0F-69DE-42D4-8ADD-EA5E723C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71B-290E-47AD-BD20-B2EC591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01F-D366-4CDF-8DEF-5F8B2B46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480-10DB-410C-B56B-6A662B9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5F0C-0D0C-4165-AFCA-3CA9C48B4ED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94F5-B431-410C-9BBE-B500C0BE5C7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83772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 Enhanced Learning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ra Kier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linda Grim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kit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no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isual Thesaurus ($), Lexipedia (free!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ctionar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imidating…but re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s as learning partn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sign/layout of physical spa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-creators of rules/procedur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ainstorming topics at cent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to use technology for lear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istakes’ are opportunities for reflection, learning, and revision for everyo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ake-a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echnology should never replace teaching. It should be used to enhance and extend quality teaching practices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aura Kieran, laura.kieran@drake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linda Grimm, mj-grimm@wiu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Center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just for kindergart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74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arning stations ar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-cent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gaging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acher-gu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llabora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ood for ANY age and gr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7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Where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hysical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raffic patter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Materials?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ge-appropria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afe/practica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Accountability idea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ssigning roles at cent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ssign specific task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rovide support for self-checks and evalu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574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ptions for reading text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lectronic, with or without text to voi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ptions for respons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ritten…paper/pencil or word process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Voice to tex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udio or video record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Grouping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dividua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rtner/small group collabora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Varied levels of difficulty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mphasis on Big Idea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hallenge problem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Service Announcemen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fferentiation in materials, including the use of e-text provides readers with disabilities with Accessible Instructional Materia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students can’t access or read the text, they can’t make progress on the CCS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7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ne of these tools must be 1: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l should be considered as tools for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onsumption and productio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y stud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Pads, tablets, laptops, computers (-BYOD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adphones/headse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ideo and audio record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ART or Promethean boar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and 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7120" y="1904760"/>
            <a:ext cx="323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exibility with tools for recording and podcasting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76920" y="1752480"/>
            <a:ext cx="4152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arage Ban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ice Threa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ix N Tel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Tunes 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napgui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ducre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mia Tea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Movi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ck Puppe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ding Ca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no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dmod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NRespo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Boo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active CD-ROM boo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-text or Bookshare.or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raphic organizers such as Tools4Read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Kindle read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23:20:51Z</dcterms:created>
  <dc:creator>gc0375402</dc:creator>
  <dc:description/>
  <dc:language>en-US</dc:language>
  <cp:lastModifiedBy>Laura Kieran</cp:lastModifiedBy>
  <dcterms:modified xsi:type="dcterms:W3CDTF">2014-09-29T21:31:59Z</dcterms:modified>
  <cp:revision>80</cp:revision>
  <dc:subject/>
  <dc:title>Historical perspectives in  Special Education:</dc:title>
</cp:coreProperties>
</file>